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0CDD-6DD2-4463-831E-C50C8C2E9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F91E-F384-45B6-90E1-C2CF5EA1D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tivities – jewels if you talk!  Two jewels = a pencil, three = highligh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play (+ show vide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Gallery (bring stickies, photocopy time traveller/beloved exampl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ow with corporate sponsorship essay. First read and highlight, then make line, I ask does the intro give good info, does it avoid extremes, etc.  If didn’t have time with teachers to do red/green cards, they can try a version.  Use high/low photocopy too – get more specific as year goes on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lin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hoice Thoreau (photocopy passage) – MAY BE TOO H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1E3A-9C8D-4AE6-81B1-564706361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0C404-9883-405B-9800-1073B4FB2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33BD-3832-4045-8BD8-A5C1A8B92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E4011-ABDC-4151-B9BD-EF3BBCF7E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FB7C8-F520-4603-824A-F1C7388C3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3FE1D-F5B5-40D2-8976-06E457092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6FEFB-B15F-4707-8352-95A74C37A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45307-1F36-4260-B5FB-2B69D5F4D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77C83-446C-4D7C-BEBB-718AD7791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31B67-E24B-44C9-BC59-C0E0BAB40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99CF3-AA68-4A25-ABEA-F2419F3CF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7EFB0-0D0F-4126-AC9B-597A63AA5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52CCC-3B18-49F1-8A99-668EB7B0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0A6BC-D1A6-42A8-B50F-3A4EA7EBD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C7280-06E0-40EE-8892-7FA6A77BE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05DEA-9FA6-42CC-A408-F9329B02A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4BDB3-2CF5-4E6E-AA11-7CC0B15CC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F4839-65B9-4A16-866B-8839C0F17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E1F8-9BBF-4734-A6AB-6EE075C7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DF046-A5E0-4D30-9213-38963FC0D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3A043-124B-4EA5-9E15-1EE2D73C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E2E5-DCDD-49CA-9E17-1E9C2E4E6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E1A40-EB9C-46B0-A160-411B5C89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6FDCE-4308-49B0-8CFC-589640D3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0B8A7-8777-44AA-8F44-222FA44F1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A854-DAFF-4685-B7EC-2DB427F126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3477-C25F-4C8D-B6D7-3B56C36673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minhwind.com/zoom/rhetoric02.jpg&amp;imgrefurl=http://www.minhwind.com/&amp;h=647&amp;w=500&amp;sz=302&amp;hl=en&amp;start=4&amp;usg=__xZid5SVfot4wumGIDm9xHXXqRYk=&amp;tbnid=N8XMGGwV5VVznM:&amp;tbnh=137&amp;tbnw=106&amp;prev=/images?q=rhetoric&amp;gbv=2&amp;hl=en&amp;newwindow=1&amp;sa=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685800"/>
            <a:ext cx="6629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3600" spc="-1" strike="noStrike">
                <a:solidFill>
                  <a:srgbClr val="330033"/>
                </a:solidFill>
                <a:latin typeface="Times New Roman"/>
                <a:ea typeface="宋体"/>
              </a:rPr>
              <a:t>AP Language and Composition </a:t>
            </a:r>
            <a:br>
              <a:rPr sz="3600"/>
            </a:br>
            <a:r>
              <a:rPr b="1" lang="en-US" sz="3600" spc="-1" strike="noStrike">
                <a:solidFill>
                  <a:srgbClr val="330033"/>
                </a:solidFill>
                <a:latin typeface="Times New Roman"/>
                <a:ea typeface="宋体"/>
              </a:rPr>
              <a:t>Marney Rosen </a:t>
            </a:r>
            <a:br>
              <a:rPr sz="3600"/>
            </a:br>
            <a:r>
              <a:rPr b="1" lang="en-US" sz="3600" spc="-1" strike="noStrike">
                <a:solidFill>
                  <a:srgbClr val="330033"/>
                </a:solidFill>
                <a:latin typeface="Times New Roman"/>
                <a:ea typeface="宋体"/>
              </a:rPr>
              <a:t>marney.rosen@saschina.org</a:t>
            </a:r>
            <a:br>
              <a:rPr sz="4400"/>
            </a:br>
            <a:br>
              <a:rPr sz="4400"/>
            </a:br>
            <a:r>
              <a:rPr b="0" lang="en-US" sz="4400" spc="-1" strike="noStrike">
                <a:solidFill>
                  <a:srgbClr val="330033"/>
                </a:solidFill>
                <a:latin typeface="Times New Roman"/>
                <a:ea typeface="宋体"/>
              </a:rPr>
              <a:t>	</a:t>
            </a:r>
            <a:br>
              <a:rPr sz="4400"/>
            </a:b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504960"/>
            <a:ext cx="6858000" cy="2361960"/>
          </a:xfrm>
          <a:prstGeom prst="rect">
            <a:avLst/>
          </a:prstGeom>
          <a:noFill/>
          <a:ln w="0">
            <a:noFill/>
          </a:ln>
        </p:spPr>
        <p:txBody>
          <a:bodyPr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CHALLENGE, RISK-TAK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LEVEL, REAL-WORLD READING AND WRITING</a:t>
            </a:r>
            <a:endParaRPr b="0" lang="en-US" sz="2000" spc="-1" strike="noStrike">
              <a:solidFill>
                <a:srgbClr val="000000"/>
              </a:solidFill>
              <a:latin typeface="Arial"/>
            </a:endParaRPr>
          </a:p>
        </p:txBody>
      </p:sp>
      <p:pic>
        <p:nvPicPr>
          <p:cNvPr id="106" name="Picture 9" descr="http://tbn0.google.com/images?q=tbn:N8XMGGwV5VVznM:http://www.minhwind.com/zoom/rhetoric02.jpg">
            <a:hlinkClick r:id="rId1"/>
          </p:cNvPr>
          <p:cNvPicPr/>
          <p:nvPr/>
        </p:nvPicPr>
        <p:blipFill>
          <a:blip r:embed="rId2"/>
          <a:stretch/>
        </p:blipFill>
        <p:spPr>
          <a:xfrm>
            <a:off x="0" y="685800"/>
            <a:ext cx="175248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 A NUTSHELL …</a:t>
            </a:r>
            <a:endParaRPr b="0" lang="en-US" sz="4200" spc="-1" strike="noStrike">
              <a:solidFill>
                <a:srgbClr val="330033"/>
              </a:solidFill>
              <a:latin typeface="Times New Roman"/>
            </a:endParaRPr>
          </a:p>
        </p:txBody>
      </p:sp>
      <p:sp>
        <p:nvSpPr>
          <p:cNvPr id="108" name=""/>
          <p:cNvSpPr txBox="1"/>
          <p:nvPr/>
        </p:nvSpPr>
        <p:spPr>
          <a:xfrm>
            <a:off x="914040" y="1599840"/>
            <a:ext cx="807732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llege Board states that the emphasis of the AP Language and Composition Course is on “the expository, analytical, and argumentative writing that forms the basis of academic and professional communication as well as the personal and reflective writing that fosters the development of writing facility in any context.”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d0000"/>
                </a:solidFill>
                <a:latin typeface="Times New Roman"/>
              </a:rPr>
              <a:t>ESSAYS:</a:t>
            </a:r>
            <a:br>
              <a:rPr sz="2800"/>
            </a:br>
            <a:r>
              <a:rPr b="0" lang="en-US" sz="2800" spc="-1" strike="noStrike">
                <a:solidFill>
                  <a:srgbClr val="ad0000"/>
                </a:solidFill>
                <a:latin typeface="Times New Roman"/>
              </a:rPr>
              <a:t>3 essays, 40 minutes each + 15 minutes reading, </a:t>
            </a:r>
            <a:br>
              <a:rPr sz="2800"/>
            </a:br>
            <a:r>
              <a:rPr b="0" lang="en-US" sz="2800" spc="-1" strike="noStrike">
                <a:solidFill>
                  <a:srgbClr val="ad0000"/>
                </a:solidFill>
                <a:latin typeface="Times New Roman"/>
              </a:rPr>
              <a:t>55%, each essay scores out of 9</a:t>
            </a:r>
            <a:endParaRPr b="0" lang="en-US" sz="2800" spc="-1" strike="noStrike">
              <a:solidFill>
                <a:srgbClr val="330033"/>
              </a:solidFill>
              <a:latin typeface="Times New Roman"/>
            </a:endParaRPr>
          </a:p>
        </p:txBody>
      </p:sp>
      <p:pic>
        <p:nvPicPr>
          <p:cNvPr id="110" name="" descr=""/>
          <p:cNvPicPr/>
          <p:nvPr/>
        </p:nvPicPr>
        <p:blipFill>
          <a:blip r:embed="rId1"/>
          <a:stretch/>
        </p:blipFill>
        <p:spPr>
          <a:xfrm>
            <a:off x="914400" y="1599840"/>
            <a:ext cx="7772400" cy="4530600"/>
          </a:xfrm>
          <a:prstGeom prst="rect">
            <a:avLst/>
          </a:prstGeom>
          <a:ln w="0">
            <a:noFill/>
          </a:ln>
        </p:spPr>
      </p:pic>
      <p:pic>
        <p:nvPicPr>
          <p:cNvPr id="111" name="Diagram 9" descr=""/>
          <p:cNvPicPr/>
          <p:nvPr/>
        </p:nvPicPr>
        <p:blipFill>
          <a:blip r:embed="rId2"/>
          <a:stretch/>
        </p:blipFill>
        <p:spPr>
          <a:xfrm>
            <a:off x="1511280" y="1657440"/>
            <a:ext cx="6121440" cy="4091040"/>
          </a:xfrm>
          <a:prstGeom prst="rect">
            <a:avLst/>
          </a:prstGeom>
          <a:ln w="0">
            <a:noFill/>
          </a:ln>
        </p:spPr>
      </p:pic>
      <p:sp>
        <p:nvSpPr>
          <p:cNvPr id="112" name="TextBox 12"/>
          <p:cNvSpPr/>
          <p:nvPr/>
        </p:nvSpPr>
        <p:spPr>
          <a:xfrm>
            <a:off x="838080" y="58672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ttp://apcentral.collegeboard.com/apc/Controller.jp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14" name="Content Placeholder 3" descr="drinking and driving.tif"/>
          <p:cNvPicPr/>
          <p:nvPr/>
        </p:nvPicPr>
        <p:blipFill>
          <a:blip r:embed="rId1"/>
          <a:srcRect l="-56006" t="0" r="-56006" b="0"/>
          <a:stretch/>
        </p:blipFill>
        <p:spPr>
          <a:xfrm>
            <a:off x="-2514600" y="152280"/>
            <a:ext cx="14096880" cy="64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360"/>
            <a:ext cx="7772400" cy="142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00a6"/>
              </a:solidFill>
              <a:latin typeface="Times New Roman"/>
            </a:endParaRPr>
          </a:p>
        </p:txBody>
      </p:sp>
      <p:sp>
        <p:nvSpPr>
          <p:cNvPr id="116" name=""/>
          <p:cNvSpPr txBox="1"/>
          <p:nvPr/>
        </p:nvSpPr>
        <p:spPr>
          <a:xfrm>
            <a:off x="914400" y="1447560"/>
            <a:ext cx="7772400" cy="4190760"/>
          </a:xfrm>
          <a:prstGeom prst="rect">
            <a:avLst/>
          </a:prstGeom>
          <a:noFill/>
          <a:ln w="0">
            <a:noFill/>
          </a:ln>
        </p:spPr>
        <p:txBody>
          <a:bodyPr anchor="t">
            <a:normAutofit fontScale="87000"/>
          </a:bodyPr>
          <a:p>
            <a:pPr marL="298440" indent="-298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600a6"/>
                </a:solidFill>
                <a:latin typeface="Arial"/>
              </a:rPr>
              <a:t>   </a:t>
            </a:r>
            <a:r>
              <a:rPr b="0" lang="en-US" sz="4800" spc="-1" strike="noStrike">
                <a:solidFill>
                  <a:srgbClr val="a600a6"/>
                </a:solidFill>
                <a:latin typeface="Arial"/>
              </a:rPr>
              <a:t>We’ve done the ‘what’ and the ‘how’ –what about the ‘WHY’?</a:t>
            </a:r>
            <a:br>
              <a:rPr sz="4800"/>
            </a:br>
            <a:r>
              <a:rPr b="0" lang="en-US" sz="4800" spc="-1" strike="noStrike">
                <a:solidFill>
                  <a:srgbClr val="a600a6"/>
                </a:solidFill>
                <a:latin typeface="Arial"/>
              </a:rPr>
              <a:t>(Which will lead to more ‘how’)!</a:t>
            </a:r>
            <a:endParaRPr b="0" lang="en-US" sz="4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http://aplang2010-11.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13:43:26Z</dcterms:created>
  <dc:creator>sas</dc:creator>
  <dc:description/>
  <dc:language>en-US</dc:language>
  <cp:lastModifiedBy>SAS</cp:lastModifiedBy>
  <cp:lastPrinted>2011-05-19T04:00:43Z</cp:lastPrinted>
  <dcterms:modified xsi:type="dcterms:W3CDTF">2011-05-20T06:37:09Z</dcterms:modified>
  <cp:revision>53</cp:revision>
  <dc:subject/>
  <dc:title>   Grade 11 English, 2006-07 M. Rosen, J. Malone, and J. Wild    </dc:title>
</cp:coreProperties>
</file>